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362B-F260-4D35-9545-59B3EE15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8DDE-ACBB-490C-AAE5-696FB124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8B1-4C16-4966-9410-9FB91210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F23-8692-4F0A-9FAE-6C6A86FB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01BC-B8DE-4EE9-9673-A719E489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E136-605E-438E-8CDB-23C056C5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891B-0073-4137-9D74-A3DD8A21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1A6F-46A2-4EE2-9C26-474ABE0D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BEB3-2C8D-4AA1-B098-4401DBB9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FEF6-1FDA-4293-BF4B-420A3BDD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6675-7B90-4C1B-9F61-2EAB5A6B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777-2E91-4E20-A5EB-57434F9B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2BFB-CA44-44F9-89C6-973F2C61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FD9D-9881-4A13-AFA8-759CFF15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C63E-B1FC-4C8F-A21A-27104347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ACA5-8EFF-442F-81B4-AC4787D9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EE82-B237-439B-BF28-DAE1756B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E1E4-EAAE-4915-973A-37D5DE62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80DC-B5A1-42D9-8D4A-A3D6C1D0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7177-D51D-4CF0-9040-863C4FED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FEC2-C8C5-47B8-8B5F-57A64E62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030-2347-4ACB-9669-26CB108B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D05B-E998-4B38-844E-25650FCA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C58C-B6E1-425E-ADD6-2522B6A7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6c6c6c"/>
                </a:gs>
                <a:gs pos="100000">
                  <a:srgbClr val="4d4d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8A3C-ECE3-4180-AE12-0824CD3FEB5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6c6c6c"/>
                </a:gs>
                <a:gs pos="100000">
                  <a:srgbClr val="4d4d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202e2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02e2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7A1F-865D-4C32-B65E-F88B09514BF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7c8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7c8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Warm-up:  MSA Review Day 11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Unit 8: Statistics and Probability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bjective:  Students will create and interpret frequency tab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Objective: Objective:  Students will create and interpret frequency tables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cabulary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t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equency tabl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sts the number of times each item occurs in a set of dat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4582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Objective: Objective:  Students will create and interpret frequency tables</a:t>
            </a: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 How to make a frequency table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) (gather data) You do a survey of 15 kids in class to see what their favorite colors are. The results are: </a:t>
            </a: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yellow, blue, blue, red, orange, pink, pink, pink, blue, green, orange, yellow, red, red, blu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) Next make a chart putting the choices on the side, a place to make tallies and a place to total up the tallies (called the frequenc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3880" y="3809880"/>
          <a:ext cx="6400800" cy="276696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13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ll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 l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 l l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l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in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 l 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4582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Objective: Objective:  Students will create and interpret frequency tables</a:t>
            </a: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Make a frequency table of the data then tell which item(s) occur most often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 of siblings each student has: 1, 4, 3, 3, 2, 1, 1, 1, 1, 1, 2, 1, 2, 3, 2, 1, 2, 1, 1, 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4582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Objective: Objective:  Students will create and interpret frequency tables</a:t>
            </a: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Make a frequency table of the data then tell which item(s) occur most often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basketball team has 4 main positions: Point guard (pg), guard (g), Forward (f) and center (c). There were 20 girls who tried out, they played the following positions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, g, pg, f, f, g, g, g, g, f, c, f, c, c, g, f, f, c, g, g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bjective: Objective:  Students will create and interpret frequency tabl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at the last frequency table you mad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ich position was most popular amongst the basketball players? Explain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many more players are guards than center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ass Survey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ke 5 minutes to survey the people in our class asking them the two questio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the data you collected to create a frequency tab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2e2"/>
            </a:gs>
            <a:gs pos="100000">
              <a:srgbClr val="4d4d4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equency Table BC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27:53Z</dcterms:created>
  <dc:creator>TAMMY  COON</dc:creator>
  <dc:description/>
  <dc:language>en-US</dc:language>
  <cp:lastModifiedBy>deanne elizabeth mcgrath</cp:lastModifiedBy>
  <dcterms:modified xsi:type="dcterms:W3CDTF">2011-02-28T18:38:37Z</dcterms:modified>
  <cp:revision>13</cp:revision>
  <dc:subject/>
  <dc:title>Opener</dc:title>
</cp:coreProperties>
</file>